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24E-41E1-43F1-A3FB-04000106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E96-DA87-4152-9BE2-1B9B124B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DC8-0F57-4BC1-ACC4-E679F35D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151-BE76-43F0-B75F-AD1E9B9E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0FFF-159A-48E3-B183-8371CCDF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EC2A-33C3-4445-86DB-713A7C46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083A-1848-49F5-A99D-9B82DCD3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627A-CC31-4298-8416-1FAA2BB9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EFE4-0A7C-4B61-BC42-62967A14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00B5-25BF-48E1-9634-F782CB52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9404-B376-4942-B3DD-4644FC98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9F2-51B9-4AC4-948C-550CA40A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90FD-8620-4BC9-8566-97997202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8A39-ABAA-48BB-936E-49B5FFD9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AE43-D1D0-470B-AD12-BEB2C273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3AA5-F856-4A40-9758-6577EB9E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BC77-5D11-4537-9207-9BCAF7D5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68F-AD51-4834-8A78-427CA967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CAE-A4E6-42C5-B4C6-A600694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E91-3B84-4B9F-A6E8-5FE55D81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DDF-4B8D-4CFD-91D7-9A2800AE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96A-ACAF-45B5-B91E-ED172497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8F8-E1A5-4D0F-AFD1-2DBFCD48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A4B-F449-43AB-B703-A7480FD1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F0A1-C1F0-4405-A00B-7C1E4720005C}" type="slidenum">
              <a:rPr b="0" lang="es-C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958A-E97D-42FB-890C-8958A2386291}" type="slidenum">
              <a:rPr b="0" lang="es-C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5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 Título" descr=""/>
          <p:cNvPicPr/>
          <p:nvPr/>
        </p:nvPicPr>
        <p:blipFill>
          <a:blip r:embed="rId1"/>
          <a:stretch/>
        </p:blipFill>
        <p:spPr>
          <a:xfrm>
            <a:off x="749160" y="712800"/>
            <a:ext cx="7785360" cy="188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3e8ea9"/>
                </a:solidFill>
                <a:latin typeface="Book Antiqua"/>
              </a:rPr>
              <a:t>Estudiante: </a:t>
            </a:r>
            <a:r>
              <a:rPr b="0" lang="es-CR" sz="2800" spc="-1" strike="noStrike">
                <a:solidFill>
                  <a:srgbClr val="ff0000"/>
                </a:solidFill>
                <a:latin typeface="Blackadder ITC"/>
              </a:rPr>
              <a:t>Òscar Alberto Alvarad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0000"/>
                </a:solidFill>
                <a:latin typeface="Blackadder ITC"/>
              </a:rPr>
              <a:t>Rodríguez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3e8ea9"/>
                </a:solidFill>
                <a:latin typeface="Blackadder ITC"/>
              </a:rPr>
              <a:t>Sección </a:t>
            </a:r>
            <a:r>
              <a:rPr b="0" lang="es-CR" sz="2800" spc="-1" strike="noStrike">
                <a:solidFill>
                  <a:srgbClr val="ff0000"/>
                </a:solidFill>
                <a:latin typeface="Blackadder ITC"/>
              </a:rPr>
              <a:t>: </a:t>
            </a:r>
            <a:r>
              <a:rPr b="0" lang="es-CR" sz="2800" spc="-1" strike="noStrike">
                <a:solidFill>
                  <a:srgbClr val="ff0000"/>
                </a:solidFill>
                <a:latin typeface="Book Antiqua"/>
              </a:rPr>
              <a:t>7-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9640" y="475920"/>
            <a:ext cx="8229600" cy="58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3366ff"/>
                </a:solidFill>
                <a:latin typeface="Book Antiqua"/>
              </a:rPr>
              <a:t>Adelantar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pasar la canción mas rápido Asia delan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Controls.fastForwa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3 Imagen" descr="adelantar.bmp"/>
          <p:cNvPicPr/>
          <p:nvPr/>
        </p:nvPicPr>
        <p:blipFill>
          <a:blip r:embed="rId4"/>
          <a:stretch/>
        </p:blipFill>
        <p:spPr>
          <a:xfrm>
            <a:off x="3419640" y="3500280"/>
            <a:ext cx="2304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6919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336600"/>
                </a:solidFill>
                <a:latin typeface="Book Antiqua"/>
              </a:rPr>
              <a:t>Atrasar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atrasar mas rápido el video Asia atrá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Controls.fastRever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3 Imagen" descr="retroceder.bmp"/>
          <p:cNvPicPr/>
          <p:nvPr/>
        </p:nvPicPr>
        <p:blipFill>
          <a:blip r:embed="rId4"/>
          <a:stretch/>
        </p:blipFill>
        <p:spPr>
          <a:xfrm>
            <a:off x="3492360" y="3573360"/>
            <a:ext cx="21416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cc6600"/>
                </a:solidFill>
                <a:latin typeface="Book Antiqua"/>
              </a:rPr>
              <a:t>Salir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salir de todo el progra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ThisDocument.Application.Visible = Tr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ThisDocument.Application.Qu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3 Imagen" descr="salir.bmp"/>
          <p:cNvPicPr/>
          <p:nvPr/>
        </p:nvPicPr>
        <p:blipFill>
          <a:blip r:embed="rId1"/>
          <a:stretch/>
        </p:blipFill>
        <p:spPr>
          <a:xfrm>
            <a:off x="3132000" y="3645000"/>
            <a:ext cx="27878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663300"/>
                </a:solidFill>
                <a:latin typeface="Book Antiqua"/>
              </a:rPr>
              <a:t>On/off 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quitar los botones y para volverlos a pon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Programación:If estado = False The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play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pause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stop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adelantar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atrasar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ute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as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enos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Exit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BOlista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BOlista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stado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BOlista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stado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play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pause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stop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BOlista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adelantar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atrasar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as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enos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ute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Exit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stado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nd If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3 Imagen" descr="3460396-green-ronda-boton-con-el-simbolo-on--off.jpg"/>
          <p:cNvPicPr/>
          <p:nvPr/>
        </p:nvPicPr>
        <p:blipFill>
          <a:blip r:embed="rId15"/>
          <a:stretch/>
        </p:blipFill>
        <p:spPr>
          <a:xfrm>
            <a:off x="6300720" y="1916280"/>
            <a:ext cx="22478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2060"/>
                </a:solidFill>
                <a:latin typeface="Book Antiqua"/>
              </a:rPr>
              <a:t>Barra para elegir el video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: sirve para escoger el video que deseamos</a:t>
            </a:r>
            <a:r>
              <a:rPr b="0" lang="es-CR" sz="2800" spc="-1" strike="noStrike">
                <a:solidFill>
                  <a:srgbClr val="00206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Programacion: Select Case CBOlista.ListInde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Case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WMPpantalla.URL = ActiveDocument.Path &amp; ("/Videos/basta de violencia.WMV"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Case 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WMPpantalla.URL = ActiveDocument.Path &amp; ("/Videos/EL Embarazo.WMV"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Case 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WMPpantalla.URL = ActiveDocumet.Path &amp; ("/Videos/Baile Del Robot.WMV"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End Sele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Book Antiqua"/>
              </a:rPr>
              <a:t>Entramos a Microsoft Wor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Book Antiqua"/>
              </a:rPr>
              <a:t>estrimos alt y F11 al mismo tip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Book Antiqua"/>
              </a:rPr>
              <a:t>empezamos hacer el reproduc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Book Antiqua"/>
              </a:rPr>
              <a:t>Pla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7e4e99"/>
                </a:solidFill>
                <a:latin typeface="Book Antiqua"/>
              </a:rPr>
              <a:t>Pau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533ea9"/>
                </a:solidFill>
                <a:latin typeface="Book Antiqua"/>
              </a:rPr>
              <a:t>Sto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af9738"/>
                </a:solidFill>
                <a:latin typeface="Book Antiqua"/>
              </a:rPr>
              <a:t>Mu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b050"/>
                </a:solidFill>
                <a:latin typeface="Book Antiqua"/>
              </a:rPr>
              <a:t>Ma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Men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c00000"/>
                </a:solidFill>
                <a:latin typeface="Book Antiqua"/>
              </a:rPr>
              <a:t>Adelant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92d050"/>
                </a:solidFill>
                <a:latin typeface="Book Antiqua"/>
              </a:rPr>
              <a:t>Atras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40bae0"/>
                </a:solidFill>
                <a:latin typeface="Book Antiqua"/>
              </a:rPr>
              <a:t>Salir, on/off la barra de elegir vide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Book Antiqua"/>
              </a:rPr>
              <a:t>Play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es para reproducir la canció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 WMPpantalla.Controls.pla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3 Imagen" descr="play.jpg"/>
          <p:cNvPicPr/>
          <p:nvPr/>
        </p:nvPicPr>
        <p:blipFill>
          <a:blip r:embed="rId5"/>
          <a:stretch/>
        </p:blipFill>
        <p:spPr>
          <a:xfrm>
            <a:off x="2843280" y="3500280"/>
            <a:ext cx="283356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b0f0"/>
                </a:solidFill>
                <a:latin typeface="Book Antiqua"/>
              </a:rPr>
              <a:t>Pause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pausar la canción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 WMPpantalla.Controls.pau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3 Imagen" descr="2550894_f520.jpg"/>
          <p:cNvPicPr/>
          <p:nvPr/>
        </p:nvPicPr>
        <p:blipFill>
          <a:blip r:embed="rId3"/>
          <a:stretch/>
        </p:blipFill>
        <p:spPr>
          <a:xfrm>
            <a:off x="3203640" y="2924280"/>
            <a:ext cx="31971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92d050"/>
                </a:solidFill>
                <a:latin typeface="Book Antiqua"/>
              </a:rPr>
              <a:t>Stop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devuelve la canción al inici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Controls.stop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3 Imagen" descr="iStock_000013765654XSmall4.jpg"/>
          <p:cNvPicPr/>
          <p:nvPr/>
        </p:nvPicPr>
        <p:blipFill>
          <a:blip r:embed="rId3"/>
          <a:stretch/>
        </p:blipFill>
        <p:spPr>
          <a:xfrm>
            <a:off x="2916360" y="2708280"/>
            <a:ext cx="330516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cc66ff"/>
                </a:solidFill>
                <a:latin typeface="Book Antiqua"/>
              </a:rPr>
              <a:t>Mute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poner la canción en silencio pero el video sigue en movimient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 :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If WMPpantalla.settings.mute = True T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settings.mute = Fal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settings.mute = Tr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3 Imagen" descr="5566177-loud-speaker-mute-glossy-button-isolated-over-white-background.jpg"/>
          <p:cNvPicPr/>
          <p:nvPr/>
        </p:nvPicPr>
        <p:blipFill>
          <a:blip r:embed="rId8"/>
          <a:stretch/>
        </p:blipFill>
        <p:spPr>
          <a:xfrm>
            <a:off x="3059280" y="4149720"/>
            <a:ext cx="3070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ff00"/>
                </a:solidFill>
                <a:latin typeface="Book Antiqua"/>
              </a:rPr>
              <a:t>Mas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subir el volumen de la canció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settings.volume = WMPpantalla.settings.volume + 1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3 Imagen" descr="mas.bmp"/>
          <p:cNvPicPr/>
          <p:nvPr/>
        </p:nvPicPr>
        <p:blipFill>
          <a:blip r:embed="rId4"/>
          <a:stretch/>
        </p:blipFill>
        <p:spPr>
          <a:xfrm>
            <a:off x="3635280" y="2708280"/>
            <a:ext cx="25750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800000"/>
                </a:solidFill>
                <a:latin typeface="Book Antiqua"/>
              </a:rPr>
              <a:t>Menos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bajar el volumen de la canció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settings.volume = WMPpantalla.settings.volume – 1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3 Imagen" descr="imagesCA7J8F0A.jpg"/>
          <p:cNvPicPr/>
          <p:nvPr/>
        </p:nvPicPr>
        <p:blipFill>
          <a:blip r:embed="rId3"/>
          <a:stretch/>
        </p:blipFill>
        <p:spPr>
          <a:xfrm>
            <a:off x="3492360" y="306864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43:40Z</dcterms:created>
  <dc:creator>dos</dc:creator>
  <dc:description/>
  <dc:language>en-US</dc:language>
  <cp:lastModifiedBy>dos</cp:lastModifiedBy>
  <dcterms:modified xsi:type="dcterms:W3CDTF">2012-10-25T13:59:51Z</dcterms:modified>
  <cp:revision>13</cp:revision>
  <dc:subject/>
  <dc:title>Colegio bilingüe palmares</dc:title>
</cp:coreProperties>
</file>